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8802688" cy="11660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531b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Cell Cyc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ortant Ter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chromatin - the form taken by chromosomes when a eukaryotic cell is not dividing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monad chromosome - unreplicated chromosome (single chromosome)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dyad chromosome - replicated chromosome (double chromosome)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chromatid - half of a dyad chromosom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centromere - structure by which chromatids  of  a dyad chromosome are held together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tosis*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1.  Prophase:  dyad (replicated) chromosomes resemble long threads (chromatin); replicated centrioles move apart toward opposite poles; (animal cell); nucleolus disappears; dyad chromosomes condense (coil tightly); nuclear membrane disintegrates; spindle fibers appear between centrioles; dyad chromosomes migrate toward the equator of the cell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tosis*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2.  Metaphase:  dyad chromosomes line up along the equator of the cell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tosis*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3.  Anaphase:  dyad chromosomes separate forming monad chromosomes;               monad chromosomes move toward opposite poles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tosis*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4.  Telophase:  monad chromosomes cluster at poles; cytokinesis occurs gradually; nuclear membrane forms; nucleolus reappears; chromosomes uncoil; cytokinesis is completed; two daughters cells are formed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ughter Cells of Mito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have the same number of chromosomes as each other and as the original cell from which they were formed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e.g.   Mitosis in a cell which possesses 4 chromosomes will result in the formation of two daughter cells each having 4 chromosomes.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 you identify the stages (phases) of mitosis in both plant cells and animal cells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 you cite differences between plant cell mitosis and animal cell mitosis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ypes of Cell Divis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Mitosis 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provides cells for growth, cell replacement, and asexual reproduction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maintains chromosome number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Meiosis 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produces cells for sexual reproduction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reduces chromosome number by half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preceded by interphase which includes chromosome replication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two meiotic divisions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four daughter cells produced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daughter cells contain half  the number of chromosomes as the original cell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ortant terms in the study of meio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monad chromosome - unreplicated chromosom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dyad chromosome - chromosome composed of two chromatids (replicates)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homologous - similar in size and shap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synapsis - pairing of homologous chromosomes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crossover - exchange of segments between chromatids of homologous chromosomes 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                                                                 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romosomes are replicated during S-phase of interphase.  As a result, monad chromosomes      become dyad chromosomes.</a:t>
            </a:r>
            <a:endParaRPr b="0" lang="en-US" sz="4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4ffb"/>
            </a:gs>
            <a:gs pos="100000">
              <a:srgbClr val="05184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iosis I</a:t>
            </a:r>
            <a:br>
              <a:rPr sz="44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Figure 6.6, p. 106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rophase I:  homologous chromosomes of diploid cell synapse; homologous pairs migrate toward equator of cell; crossover may occur during synapsi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taphase I:  dyad pairs of homologous chromosomes align at the equator of the cell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phase I:  homologous chromosomes move apart toward opposite pole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lophase 1:  chromosomes cluster at poles of cell; cytokinesis occurs forming two haploid daughter cells each containing one member of each homologous pair thus reducing chromosome by half        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ypes of Cell Divis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Mitosis 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provides cells for growth, cell replacement, and asexual reproduction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maintains chromosome number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Meiosis 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produces cells for sexual reproduction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reduces chromosome number by half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4ffb"/>
            </a:gs>
            <a:gs pos="100000">
              <a:srgbClr val="05184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iosis II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resembles mitosis)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Figure 6.6, p. 106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rophase II:  dyad chromosomes move toward the equator of each cell (2)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taphase II:  dyad chromosomes align at equator of cell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phase II: dyad chromosomes separate forming monad chromosomes (chromatids separate);  monads migrate toward opposite poles of each cell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lophase II:  cytokinesis occurs at right angles to the first plane of division in each cell (2); four daughter cells are formed each having half the number of chromosomes as the original cell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mete formation - meio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meiosis in males - spermatogenesis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meiosis in females - oogenesis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permatogene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4 mature sperm cells produced from meiosis in a single spermatocyt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ogene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one mature ovum (egg cell) and 3 polar bodies formed from meiosis in a single oocyt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human female embryo - oocytes formed by mitosis and then complete prophase I of meiosis by time of birth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puberty - one oocyte in alternating ovaries resumes meiosis under the influence of hormones; at ovulation the oocyte is at metaphase II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oogenesis will be completed in the event of fertilization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parison of Mitosis and Meiosis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Table 6.2; Figure 6.8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Mitosis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synapsis does not occur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one division occurs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two daughter cells are formed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chromosome number is maintained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Meiosis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synapsis occurs during Prophase I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two divisions occur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four daughter cells are formed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chromosome number is reduced by half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ondisjunction</a:t>
            </a:r>
            <a:br>
              <a:rPr sz="44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Essay 6.1, p. 109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failure of chromosomes to separate during anaphas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results: daughter cells contain abnormal number of chromosomes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romosome anomal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Down syndrom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Turner syndrom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Klinefelter syndrom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wn syndrom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Cause: trisomy 21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Effects:  mental retardation, weakened cardiovascular system, shortened limbs,        widely-spaced eyes, receding forehead                and chin, protruding tongu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urner syndrom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Cause: one X chromosome in female (XO)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Effects:  underdeveloped ovaries; failure of secondary sex characteristics to appear;     sterility; webbing of neck; weakened            pancreas, liver, and heart in 40%; short         statur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linefelter syndrom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Cause: extra X chromosome in males (XXY)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Effects: underdeveloped testes, sterility,         failure of secondary sex characteristics to     appear, taller than averag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romosome Replic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All the DNA is duplicated.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Duplicated chromosomes separate as cell divides.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tection of chromosome anomalies in a fetus: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amniocentesis            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chorionic villi sampling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Questions for next class meeting: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During which weeks of a pregnancy, may the following procedures be conducted: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amniocentesis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chorionic villi sampling          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exual Reproduction in Bacter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Bacteria reproduce asexually by binary fission.  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A bacterium possesses a single, circular chromosome which is replicated; and then the replicates (chromosomes) are distributed to two new cells formed by division of the original cell.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Eukaryotic Cell Cyc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Interphase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fcfeb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   growth phase; synthesis of organelles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S    synthesis of DNA (replication)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fcfeb9"/>
                </a:solidFill>
                <a:latin typeface="Times New Roman"/>
              </a:rPr>
              <a:t>2   </a:t>
            </a: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growth; synthesis of proteins essential to cell division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Times New Roman"/>
              </a:rPr>
              <a:t>Mitosis</a:t>
            </a:r>
            <a:endParaRPr b="0" lang="en-US" sz="3200" spc="-1" strike="noStrike">
              <a:solidFill>
                <a:srgbClr val="fcfeb9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prophase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metaphase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anaphase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cfeb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Times New Roman"/>
              </a:rPr>
              <a:t>telophase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9T11:21:09Z</dcterms:created>
  <dc:creator>Sarah Barlow</dc:creator>
  <dc:description/>
  <cp:keywords/>
  <dc:language>en-US</dc:language>
  <cp:lastModifiedBy>Lyn Clarkson</cp:lastModifiedBy>
  <cp:lastPrinted>1997-10-13T01:08:58Z</cp:lastPrinted>
  <dcterms:modified xsi:type="dcterms:W3CDTF">2008-10-28T02:42:52Z</dcterms:modified>
  <cp:revision>20</cp:revision>
  <dc:subject/>
  <dc:title>Cellular Basis of Reproduction</dc:title>
</cp:coreProperties>
</file>